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59B-45D5-4E4F-A9E3-EF6A9C59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F10-3637-4FCE-9BD2-50CCDE07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C14-3157-44DB-A815-8108E05C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726-A6E6-40D6-8C50-58BC5000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513-BDA9-4CDA-B1E5-59327282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0EA-DEC1-4480-9759-7B2C0A8D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839-5347-48CD-87AD-46AD29E1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424D-D8C0-4AE3-939F-4C312544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D48-E19A-48FB-B8F7-4798B176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30F-A807-47D3-8301-B0712A25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9B5-9D8B-428A-AFA8-11E73A7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F38-BFD1-4AE5-99E1-041795BE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8E47-D7E6-42B7-9A0C-7840CAF579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3789360"/>
            <a:ext cx="7813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小王子</a:t>
            </a:r>
            <a:r>
              <a:rPr b="1" lang="en-US" sz="44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人物性格簡報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仿宋"/>
                <a:ea typeface="仿宋"/>
              </a:rPr>
              <a:t>326</a:t>
            </a: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號星球</a:t>
            </a:r>
            <a:r>
              <a:rPr b="1" lang="en-US" sz="44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愛慕虛榮的人</a:t>
            </a:r>
            <a:br>
              <a:rPr sz="4400"/>
            </a:b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805000"/>
            <a:ext cx="640080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</a:t>
            </a:r>
            <a:r>
              <a:rPr b="0" lang="zh-CN" sz="3200" spc="-1" strike="noStrike">
                <a:solidFill>
                  <a:srgbClr val="898989"/>
                </a:solidFill>
                <a:latin typeface="Calibri"/>
              </a:rPr>
              <a:t>徐焯軒，李進亨，江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Microsoft Himalaya"/>
                <a:ea typeface="GungsuhChe"/>
              </a:rPr>
              <a:t>語言描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啊！啊！一位崇拜者來訪啦！</a:t>
            </a: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        “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拿你的兩手對拍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        “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你對我真的崇拜之至嗎 ？</a:t>
            </a: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        “‘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崇拜’就是承認我是星球上長相最俊，衣著最美，家財最富，頭腦最靈的人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請勿推辭。依然崇拜我吧！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以上幾句對愛慕虛榮的人的語言描寫體現出了他自大、自以為是的性格特點。他不分青紅皂白便認為來者是自己的崇拜者，以及自戀的語氣確實令人有些反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心理描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因為，在愛慕虛榮的人看來，其他人都是他的崇拜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愛慕虛榮的人舉起帽子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謙遜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敬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但是愛慕虛榮的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充耳不聞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愛慕虛榮的人聽見的只是一片讚揚聲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以上對愛慕虛榮的人的心理描寫，告訴我們愛慕虛榮的人不願意面對現實這一點。特別是“充耳不聞”這個詞，更表現出愛慕虛榮的人忽略任何不是讚揚的話，儘管他沒有什麼可讓人讚揚的地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他是星球上唯一一個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動作描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愛慕虛榮的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舉起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帽子謙遜地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敬禮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愛慕虛榮的人又舉起帽子敬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文章中對愛慕虛榮的人的動作描寫並不多，但也足以表達出愛慕虛榮的人的輕浮。為什麼是輕浮呢？我們可以看出，愛慕虛榮的人在文中似乎只會敬禮，讓人覺得這個人只是做做表面的功夫，實際上完全不必如此做作。愛慕虛榮的人敬禮只是在告訴他人自己是個尊貴之人，有禮儀，可實際上，他只會不斷的敬禮反而讓小王子覺得厭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愛慕虛榮的人像現實世界的哪種人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9728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愛慕虛榮的人的言行舉止與我們口中所謂的“暴發戶”甚為相似。他們每天穿名牌服裝，買名車，去高檔餐廳消費，卻只是為了炫耀自己或滿足自己的虛榮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文章中愛慕虛榮的人穿著禮服，帶著奇怪的帽子，卻只是為了體面地敬禮，可見他和“暴發戶”們雷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不同的地方在於，“暴發戶”們有炫耀的資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可是文章中愛慕虛榮的人則不願面對現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我們的簡報到此結束，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謝謝大家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自以為是的性格特點。他不分青紅皂白便認為來者是自己的崇拜者，以及自戀的語氣確實令人有些反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愛慕虛榮的人不願意面對現實這一點。特別是“充耳不聞”這個詞，更表現出愛慕虛榮的人忽略任何不是讚揚的話，儘管他沒有什麼可讓人讚揚的地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他是星球上唯一一個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愛慕虛榮的人的輕浮。為什麼是輕浮呢？他只會敬禮，讓人覺得這個人只是做做表面的功夫，實際上完全不必如此做作。愛慕虛榮的人敬禮只是在告訴他人自己是個尊貴之人，有禮儀，可實際上，他只會不斷的敬禮反而讓小王子覺得厭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3:57:33Z</dcterms:created>
  <dc:creator>user</dc:creator>
  <dc:description/>
  <dc:language>en-US</dc:language>
  <cp:lastModifiedBy>carollam</cp:lastModifiedBy>
  <dcterms:modified xsi:type="dcterms:W3CDTF">2011-05-24T07:20:45Z</dcterms:modified>
  <cp:revision>9</cp:revision>
  <dc:subject/>
  <dc:title>《小王子》人物性格簡報 326號星球——愛慕虛榮的人</dc:title>
</cp:coreProperties>
</file>